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68BA-7333-4044-9648-4F948C84B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ictly speaking, you don’t need a Windows CE device because you can run your software on an emulator that runs on your develop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A0F-D1CD-4D26-B94C-DF49A211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8D4-4B83-4C49-80B5-B7C2C893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435-800E-4376-AD97-4F2290BD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59F-3914-48CD-AE01-81A3B068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DF2-04A0-4695-B041-278F4AFE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EE0-77A6-4843-A243-2A7F5DA6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D07-5222-45B9-904C-960090DC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AA0-8A1C-4EAC-B2CF-C1B33AAB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A66-ADA5-4FEE-82DA-B49FC411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E52-F43F-4981-8BD4-1DA83BE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B4E-63C8-4027-8BBE-3D2FD99B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D80-6A7E-4B85-AC29-8F315DD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302D-D86D-496F-BB4B-9270B768A2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72550.asp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s/details.aspx?FamilyID=9655156b-356b-4a2c-857c-e62f50ae9a55&amp;displaylang=en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NET Compact Fra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par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AMAK TAVAK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chool of Engineering &amp;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ww.brunel.ac.uk/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NET CF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637000"/>
            <a:ext cx="1800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types for Mobile Direct3D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700280"/>
            <a:ext cx="525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C# and Visual Basic 2005 languag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3932280"/>
            <a:ext cx="16574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classes for Infrared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292640"/>
            <a:ext cx="3600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s and components in Microsoft.WindowsCE.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637000"/>
            <a:ext cx="1657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classes fo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Server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637000"/>
            <a:ext cx="180000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classes including; support for Windows.Forms, Drawing, Data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149720"/>
            <a:ext cx="1657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party 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2924280"/>
            <a:ext cx="165744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party Datab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1700280"/>
            <a:ext cx="1657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cket PC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14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14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392720" y="1880640"/>
            <a:ext cx="504720" cy="7344000"/>
          </a:xfrm>
          <a:custGeom>
            <a:avLst/>
            <a:gdLst>
              <a:gd name="textAreaLeft" fmla="*/ 0 w 504720"/>
              <a:gd name="textAreaRight" fmla="*/ 182160 w 504720"/>
              <a:gd name="textAreaTop" fmla="*/ 191520 h 7344000"/>
              <a:gd name="textAreaBottom" fmla="*/ 7152480 h 73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587700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ndation for writing applications for devices and plat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3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NET CF Supported Devices &amp; Plat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2205000"/>
            <a:ext cx="1584360" cy="2303640"/>
          </a:xfrm>
          <a:custGeom>
            <a:avLst/>
            <a:gdLst>
              <a:gd name="textAreaLeft" fmla="*/ 199800 w 1584360"/>
              <a:gd name="textAreaRight" fmla="*/ 1384560 w 15843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21600" h="21600">
                <a:moveTo>
                  <a:pt x="2727" y="0"/>
                </a:moveTo>
                <a:lnTo>
                  <a:pt x="18873" y="0"/>
                </a:lnTo>
                <a:lnTo>
                  <a:pt x="18873" y="8024"/>
                </a:lnTo>
                <a:lnTo>
                  <a:pt x="19695" y="8024"/>
                </a:lnTo>
                <a:lnTo>
                  <a:pt x="19695" y="5500"/>
                </a:lnTo>
                <a:lnTo>
                  <a:pt x="21600" y="10800"/>
                </a:lnTo>
                <a:lnTo>
                  <a:pt x="19695" y="16100"/>
                </a:lnTo>
                <a:lnTo>
                  <a:pt x="19695" y="13576"/>
                </a:lnTo>
                <a:lnTo>
                  <a:pt x="18873" y="13576"/>
                </a:lnTo>
                <a:lnTo>
                  <a:pt x="18873" y="21600"/>
                </a:lnTo>
                <a:lnTo>
                  <a:pt x="2727" y="21600"/>
                </a:lnTo>
                <a:lnTo>
                  <a:pt x="2727" y="13576"/>
                </a:lnTo>
                <a:lnTo>
                  <a:pt x="1905" y="13576"/>
                </a:lnTo>
                <a:lnTo>
                  <a:pt x="1905" y="16100"/>
                </a:lnTo>
                <a:lnTo>
                  <a:pt x="0" y="10800"/>
                </a:lnTo>
                <a:lnTo>
                  <a:pt x="1905" y="5500"/>
                </a:lnTo>
                <a:lnTo>
                  <a:pt x="1905" y="8024"/>
                </a:lnTo>
                <a:lnTo>
                  <a:pt x="2727" y="802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rtph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205000"/>
            <a:ext cx="1150920" cy="2303640"/>
          </a:xfrm>
          <a:prstGeom prst="rightArrowCallout">
            <a:avLst>
              <a:gd name="adj1" fmla="val 48431"/>
              <a:gd name="adj2" fmla="val 50039"/>
              <a:gd name="adj3" fmla="val 16139"/>
              <a:gd name="adj4" fmla="val 79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NET 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64000" y="2205000"/>
            <a:ext cx="4968720" cy="2303640"/>
          </a:xfrm>
          <a:prstGeom prst="rightArrowCallout">
            <a:avLst>
              <a:gd name="adj1" fmla="val 23641"/>
              <a:gd name="adj2" fmla="val 25000"/>
              <a:gd name="adj3" fmla="val 8068"/>
              <a:gd name="adj4" fmla="val 94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 200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 200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Pocket PC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Pocket PC S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Version 5.0 software for Pocket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Smart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Version 5.0 software for Smart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79736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msdn2.microsoft.com/en-us/library/ms172550.aspx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for compatibility ma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St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NET CF is fully integrated into VS.NET 2003 and lat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types are manag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ows appli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libr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graphical application (Not available on Pocket P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 application (Not available on Pocket P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ty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ulators f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cket P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ph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edded Wi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he following platfor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bile 2003 for Pocket P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bile 2003 for Smartph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CE 5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.NET 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560" y="2131920"/>
            <a:ext cx="2087640" cy="863640"/>
          </a:xfrm>
          <a:prstGeom prst="downArrowCallout">
            <a:avLst>
              <a:gd name="adj1" fmla="val 66369"/>
              <a:gd name="adj2" fmla="val 60431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Visual Studio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ncludes .NET C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3068640"/>
            <a:ext cx="2016360" cy="863640"/>
          </a:xfrm>
          <a:prstGeom prst="downArrowCallout">
            <a:avLst>
              <a:gd name="adj1" fmla="val 64103"/>
              <a:gd name="adj2" fmla="val 58368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rt De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s use .NET 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2560" y="2133720"/>
            <a:ext cx="1656000" cy="863640"/>
          </a:xfrm>
          <a:prstGeom prst="downArrowCallout">
            <a:avLst>
              <a:gd name="adj1" fmla="val 52646"/>
              <a:gd name="adj2" fmla="val 47937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.NET CF SD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ithout VS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0560" y="3068640"/>
            <a:ext cx="3240000" cy="863640"/>
          </a:xfrm>
          <a:prstGeom prst="downArrowCallout">
            <a:avLst>
              <a:gd name="adj1" fmla="val 103004"/>
              <a:gd name="adj2" fmla="val 93789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 a setup wizard to inst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NET CF assemblies and development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076640"/>
            <a:ext cx="6264360" cy="1008000"/>
          </a:xfrm>
          <a:prstGeom prst="downArrowCallout">
            <a:avLst>
              <a:gd name="adj1" fmla="val 170631"/>
              <a:gd name="adj2" fmla="val 155366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.NET CF on the target 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tain .NET CF 2.0 redistributable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microsoft.com/downloads/details.aspx?FamilyID=9655156b-356b-4a2c-857c-e62f50ae9a55&amp;displaylang=e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98920" y="2781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2997360"/>
            <a:ext cx="144360" cy="1944360"/>
          </a:xfrm>
          <a:custGeom>
            <a:avLst/>
            <a:gdLst>
              <a:gd name="textAreaLeft" fmla="*/ 0 w 144360"/>
              <a:gd name="textAreaRight" fmla="*/ 52200 w 14436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5640" y="3284640"/>
            <a:ext cx="1800000" cy="1800000"/>
          </a:xfrm>
          <a:prstGeom prst="downArrowCallout">
            <a:avLst>
              <a:gd name="adj1" fmla="val 29456"/>
              <a:gd name="adj2" fmla="val 25000"/>
              <a:gd name="adj3" fmla="val 10194"/>
              <a:gd name="adj4" fmla="val 85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cfsetupv2.ms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 Files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crosoft Visual Studio 8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K\v2.0\Compact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\Program Files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crosoft.NET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K\v2.0\CompactFramewo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5640" y="1557360"/>
            <a:ext cx="1800000" cy="792000"/>
          </a:xfrm>
          <a:prstGeom prst="downArrowCallout">
            <a:avLst>
              <a:gd name="adj1" fmla="val 66946"/>
              <a:gd name="adj2" fmla="val 56818"/>
              <a:gd name="adj3" fmla="val 17616"/>
              <a:gd name="adj4" fmla="val 73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 and R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rosoft ActiveSy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5640" y="2421000"/>
            <a:ext cx="1800000" cy="792000"/>
          </a:xfrm>
          <a:prstGeom prst="downArrowCallout">
            <a:avLst>
              <a:gd name="adj1" fmla="val 66946"/>
              <a:gd name="adj2" fmla="val 56818"/>
              <a:gd name="adj3" fmla="val 17616"/>
              <a:gd name="adj4" fmla="val 73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 the target device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ktop machi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6560" y="3141720"/>
            <a:ext cx="8209080" cy="936720"/>
          </a:xfrm>
          <a:custGeom>
            <a:avLst/>
            <a:gdLst/>
            <a:ahLst/>
            <a:rect l="l" t="t" r="r" b="b"/>
            <a:pathLst>
              <a:path w="4218" h="734">
                <a:moveTo>
                  <a:pt x="0" y="643"/>
                </a:moveTo>
                <a:cubicBezTo>
                  <a:pt x="971" y="688"/>
                  <a:pt x="1943" y="734"/>
                  <a:pt x="2495" y="643"/>
                </a:cubicBezTo>
                <a:cubicBezTo>
                  <a:pt x="3047" y="552"/>
                  <a:pt x="3024" y="196"/>
                  <a:pt x="3311" y="98"/>
                </a:cubicBezTo>
                <a:cubicBezTo>
                  <a:pt x="3598" y="0"/>
                  <a:pt x="4067" y="68"/>
                  <a:pt x="4218" y="5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789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ng &amp; Running .NET CF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rojec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arget platfor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Device Application Wiz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development destination (device / emulator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21:16:42Z</dcterms:created>
  <dc:creator>S.M.</dc:creator>
  <dc:description/>
  <dc:language>en-US</dc:language>
  <cp:lastModifiedBy>Alireza Mousavi</cp:lastModifiedBy>
  <dcterms:modified xsi:type="dcterms:W3CDTF">2007-03-13T08:42:10Z</dcterms:modified>
  <cp:revision>40</cp:revision>
  <dc:subject/>
  <dc:title>.NET COMPACT FRAMEWORK</dc:title>
</cp:coreProperties>
</file>