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96F0B-ED70-430C-97BC-C66D6E952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B8CC7-86D8-435D-BCB6-3084A2088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24A84-42FD-4816-994A-D2E94DB15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E44E-BDA0-4BD3-B31E-6B1849E24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A4E0B-1999-4222-94EE-10ACC15C9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545EE-DE51-45AE-9924-7EA7D0090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9198E-F275-4D0E-BC74-CF5675790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80AF7-24DE-473D-858B-E7A87DCC1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DD7FB-6DFE-48C6-976F-1A65AF4B2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63EDF-37FC-40C9-8F2C-0BB9D631B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0148E-E0FA-4415-BEA0-D98157B31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6D53-CD78-4451-B34B-0C5D6BAB1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0CCEC-F436-4036-8E86-96344664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283A-4D21-4CF6-AD10-D0E23062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414BE-AEE5-48AA-8DDF-BB1F5DB06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A2368-04FB-4CD7-ACA4-38E25001A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8012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42888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173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8012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42888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C522F-C569-40CC-AFCD-8D07DFA1CB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4EB8D-C525-41D9-9699-733E38A0D2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36AB7-6D6B-4818-A7D2-C68265901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ABFAB-5923-47BC-AB02-F070FC038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7324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3F954-402F-466A-BC0E-047E7D33E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6134-C852-46BB-9F26-A8FDF4652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15592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C98D2-C7B4-4385-BEAA-FD22FDCB2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15592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17324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266A9-4248-4726-800E-1EF4C7516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720" y="-4680"/>
            <a:ext cx="1064520" cy="6858000"/>
            <a:chOff x="-720" y="-4680"/>
            <a:chExt cx="10645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41400" y="-4680"/>
              <a:ext cx="1012680" cy="6857640"/>
              <a:chOff x="41400" y="-4680"/>
              <a:chExt cx="1012680" cy="6857640"/>
            </a:xfrm>
          </p:grpSpPr>
          <p:sp>
            <p:nvSpPr>
              <p:cNvPr id="2" name=""/>
              <p:cNvSpPr/>
              <p:nvPr/>
            </p:nvSpPr>
            <p:spPr>
              <a:xfrm flipH="1">
                <a:off x="50760" y="-4680"/>
                <a:ext cx="990720" cy="68378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 flipH="1">
                <a:off x="50760" y="1692720"/>
                <a:ext cx="990720" cy="5011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>
                <a:off x="50760" y="128700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>
                <a:off x="50760" y="14904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50760" y="98460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 flipH="1">
                <a:off x="50760" y="680040"/>
                <a:ext cx="990720" cy="430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 flipH="1">
                <a:off x="50400" y="372240"/>
                <a:ext cx="1003320" cy="37476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>
                <a:off x="42840" y="393948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>
                <a:off x="42840" y="353376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>
                <a:off x="42840" y="2395080"/>
                <a:ext cx="990720" cy="30348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>
                <a:off x="42840" y="3230280"/>
                <a:ext cx="990720" cy="349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 flipH="1">
                <a:off x="42840" y="292644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 flipH="1">
                <a:off x="42480" y="2617920"/>
                <a:ext cx="1003320" cy="375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 flipH="1">
                <a:off x="50760" y="4970520"/>
                <a:ext cx="990720" cy="5007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 flipH="1">
                <a:off x="50760" y="4564440"/>
                <a:ext cx="990720" cy="50220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 flipH="1">
                <a:off x="42840" y="5672520"/>
                <a:ext cx="990720" cy="30312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 flipH="1" rot="16200000">
                <a:off x="364320" y="6183720"/>
                <a:ext cx="34596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flipH="1">
                <a:off x="42840" y="6204600"/>
                <a:ext cx="990720" cy="42948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flipH="1">
                <a:off x="42120" y="5895000"/>
                <a:ext cx="1003320" cy="37620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" name=""/>
            <p:cNvSpPr/>
            <p:nvPr/>
          </p:nvSpPr>
          <p:spPr>
            <a:xfrm flipH="1" rot="16200000">
              <a:off x="-3102840" y="3097080"/>
              <a:ext cx="685800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rot="16200000">
              <a:off x="-2514240" y="3273120"/>
              <a:ext cx="68562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72880" y="6265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4B1EB-8569-493A-906F-1D78A671CA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-3600" y="2438280"/>
            <a:ext cx="9147240" cy="1063800"/>
            <a:chOff x="-3600" y="2438280"/>
            <a:chExt cx="9147240" cy="1063800"/>
          </a:xfrm>
        </p:grpSpPr>
        <p:grpSp>
          <p:nvGrpSpPr>
            <p:cNvPr id="65" name=""/>
            <p:cNvGrpSpPr/>
            <p:nvPr/>
          </p:nvGrpSpPr>
          <p:grpSpPr>
            <a:xfrm>
              <a:off x="-3600" y="2479680"/>
              <a:ext cx="9147240" cy="1012320"/>
              <a:chOff x="-3600" y="2479680"/>
              <a:chExt cx="9147240" cy="1012320"/>
            </a:xfrm>
          </p:grpSpPr>
          <p:sp>
            <p:nvSpPr>
              <p:cNvPr id="66" name=""/>
              <p:cNvSpPr/>
              <p:nvPr/>
            </p:nvSpPr>
            <p:spPr>
              <a:xfrm flipH="1" rot="5400000">
                <a:off x="4088160" y="-1575720"/>
                <a:ext cx="990720" cy="9120240"/>
              </a:xfrm>
              <a:custGeom>
                <a:avLst/>
                <a:gdLst/>
                <a:ahLst/>
                <a:rect l="l" t="t" r="r" b="b"/>
                <a:pathLst>
                  <a:path w="1000" h="720">
                    <a:moveTo>
                      <a:pt x="0" y="0"/>
                    </a:moveTo>
                    <a:lnTo>
                      <a:pt x="0" y="720"/>
                    </a:lnTo>
                    <a:lnTo>
                      <a:pt x="1000" y="720"/>
                    </a:lnTo>
                    <a:lnTo>
                      <a:pt x="100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flipH="1" rot="5400000">
                <a:off x="6049800" y="2649960"/>
                <a:ext cx="990720" cy="66852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flipH="1" rot="5400000">
                <a:off x="659016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 rot="5400000">
                <a:off x="8240400" y="278172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5400000">
                <a:off x="7095600" y="275112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5400000">
                <a:off x="7448040" y="2697120"/>
                <a:ext cx="990720" cy="57456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 flipH="1" rot="5400000">
                <a:off x="7889760" y="2740320"/>
                <a:ext cx="1003320" cy="5000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 flipH="1" rot="5400000">
                <a:off x="3053160" y="264240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490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 flipH="1" rot="5400000">
                <a:off x="3593160" y="264132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 flipH="1" rot="5400000">
                <a:off x="5244840" y="2773800"/>
                <a:ext cx="990720" cy="40500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 flipH="1" rot="5400000">
                <a:off x="4100040" y="2743200"/>
                <a:ext cx="990720" cy="4665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520" y="317"/>
                      <a:pt x="624" y="272"/>
                    </a:cubicBezTo>
                    <a:lnTo>
                      <a:pt x="624" y="0"/>
                    </a:lnTo>
                    <a:cubicBezTo>
                      <a:pt x="240" y="42"/>
                      <a:pt x="130" y="0"/>
                      <a:pt x="0" y="0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 flipH="1" rot="5400000">
                <a:off x="445176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 rot="5400000">
                <a:off x="4893480" y="2731680"/>
                <a:ext cx="1003320" cy="50148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 rot="5400000">
                <a:off x="1678320" y="2650320"/>
                <a:ext cx="990720" cy="6681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432" y="224"/>
                      <a:pt x="520" y="317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cc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 flipH="1" rot="5400000">
                <a:off x="2218320" y="2649240"/>
                <a:ext cx="990720" cy="669960"/>
              </a:xfrm>
              <a:custGeom>
                <a:avLst/>
                <a:gdLst/>
                <a:ahLst/>
                <a:rect l="l" t="t" r="r" b="b"/>
                <a:pathLst>
                  <a:path w="624" h="317">
                    <a:moveTo>
                      <a:pt x="0" y="0"/>
                    </a:moveTo>
                    <a:lnTo>
                      <a:pt x="0" y="272"/>
                    </a:lnTo>
                    <a:cubicBezTo>
                      <a:pt x="104" y="317"/>
                      <a:pt x="432" y="240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 flipH="1" rot="5400000">
                <a:off x="873360" y="2774160"/>
                <a:ext cx="990720" cy="404640"/>
              </a:xfrm>
              <a:custGeom>
                <a:avLst/>
                <a:gdLst/>
                <a:ahLst/>
                <a:rect l="l" t="t" r="r" b="b"/>
                <a:pathLst>
                  <a:path w="624" h="370">
                    <a:moveTo>
                      <a:pt x="0" y="53"/>
                    </a:moveTo>
                    <a:lnTo>
                      <a:pt x="0" y="325"/>
                    </a:lnTo>
                    <a:cubicBezTo>
                      <a:pt x="104" y="370"/>
                      <a:pt x="520" y="370"/>
                      <a:pt x="624" y="325"/>
                    </a:cubicBezTo>
                    <a:lnTo>
                      <a:pt x="624" y="53"/>
                    </a:lnTo>
                    <a:cubicBezTo>
                      <a:pt x="584" y="0"/>
                      <a:pt x="488" y="8"/>
                      <a:pt x="384" y="8"/>
                    </a:cubicBezTo>
                    <a:cubicBezTo>
                      <a:pt x="280" y="8"/>
                      <a:pt x="80" y="44"/>
                      <a:pt x="0" y="53"/>
                    </a:cubicBezTo>
                    <a:close/>
                  </a:path>
                </a:pathLst>
              </a:custGeom>
              <a:solidFill>
                <a:srgbClr val="e1e1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flipH="1">
                <a:off x="-3960" y="2479680"/>
                <a:ext cx="461880" cy="992160"/>
              </a:xfrm>
              <a:custGeom>
                <a:avLst/>
                <a:gdLst/>
                <a:ahLst/>
                <a:rect l="l" t="t" r="r" b="b"/>
                <a:pathLst>
                  <a:path w="291" h="625">
                    <a:moveTo>
                      <a:pt x="0" y="624"/>
                    </a:moveTo>
                    <a:lnTo>
                      <a:pt x="291" y="625"/>
                    </a:lnTo>
                    <a:lnTo>
                      <a:pt x="291" y="6"/>
                    </a:lnTo>
                    <a:lnTo>
                      <a:pt x="0" y="0"/>
                    </a:lnTo>
                    <a:cubicBezTo>
                      <a:pt x="39" y="384"/>
                      <a:pt x="0" y="494"/>
                      <a:pt x="0" y="624"/>
                    </a:cubicBez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flipH="1" rot="5400000">
                <a:off x="79200" y="2689920"/>
                <a:ext cx="990720" cy="573120"/>
              </a:xfrm>
              <a:custGeom>
                <a:avLst/>
                <a:gdLst/>
                <a:ahLst/>
                <a:rect l="l" t="t" r="r" b="b"/>
                <a:pathLst>
                  <a:path w="624" h="272">
                    <a:moveTo>
                      <a:pt x="0" y="0"/>
                    </a:moveTo>
                    <a:cubicBezTo>
                      <a:pt x="0" y="0"/>
                      <a:pt x="0" y="272"/>
                      <a:pt x="0" y="272"/>
                    </a:cubicBezTo>
                    <a:cubicBezTo>
                      <a:pt x="96" y="240"/>
                      <a:pt x="136" y="240"/>
                      <a:pt x="240" y="240"/>
                    </a:cubicBezTo>
                    <a:cubicBezTo>
                      <a:pt x="344" y="240"/>
                      <a:pt x="528" y="272"/>
                      <a:pt x="624" y="272"/>
                    </a:cubicBezTo>
                    <a:lnTo>
                      <a:pt x="624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66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flipH="1" rot="5400000">
                <a:off x="521640" y="2731320"/>
                <a:ext cx="1003320" cy="501840"/>
              </a:xfrm>
              <a:custGeom>
                <a:avLst/>
                <a:gdLst/>
                <a:ahLst/>
                <a:rect l="l" t="t" r="r" b="b"/>
                <a:pathLst>
                  <a:path w="632" h="362">
                    <a:moveTo>
                      <a:pt x="8" y="45"/>
                    </a:moveTo>
                    <a:lnTo>
                      <a:pt x="8" y="317"/>
                    </a:lnTo>
                    <a:cubicBezTo>
                      <a:pt x="48" y="362"/>
                      <a:pt x="144" y="317"/>
                      <a:pt x="248" y="317"/>
                    </a:cubicBezTo>
                    <a:cubicBezTo>
                      <a:pt x="352" y="317"/>
                      <a:pt x="568" y="362"/>
                      <a:pt x="632" y="317"/>
                    </a:cubicBezTo>
                    <a:lnTo>
                      <a:pt x="632" y="45"/>
                    </a:lnTo>
                    <a:cubicBezTo>
                      <a:pt x="544" y="0"/>
                      <a:pt x="208" y="45"/>
                      <a:pt x="104" y="45"/>
                    </a:cubicBezTo>
                    <a:cubicBezTo>
                      <a:pt x="0" y="45"/>
                      <a:pt x="28" y="45"/>
                      <a:pt x="8" y="45"/>
                    </a:cubicBezTo>
                    <a:close/>
                  </a:path>
                </a:pathLst>
              </a:cu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5" name=""/>
            <p:cNvSpPr/>
            <p:nvPr/>
          </p:nvSpPr>
          <p:spPr>
            <a:xfrm flipH="1">
              <a:off x="-3960" y="2438280"/>
              <a:ext cx="9147240" cy="654120"/>
            </a:xfrm>
            <a:custGeom>
              <a:avLst/>
              <a:gdLst/>
              <a:ahLst/>
              <a:rect l="l" t="t" r="r" b="b"/>
              <a:pathLst>
                <a:path w="5762" h="385">
                  <a:moveTo>
                    <a:pt x="0" y="196"/>
                  </a:moveTo>
                  <a:cubicBezTo>
                    <a:pt x="1667" y="385"/>
                    <a:pt x="2275" y="93"/>
                    <a:pt x="5762" y="188"/>
                  </a:cubicBezTo>
                  <a:lnTo>
                    <a:pt x="5762" y="4"/>
                  </a:lnTo>
                  <a:lnTo>
                    <a:pt x="0" y="0"/>
                  </a:lnTo>
                  <a:lnTo>
                    <a:pt x="0" y="196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-3960" y="3201840"/>
              <a:ext cx="9145800" cy="300240"/>
            </a:xfrm>
            <a:custGeom>
              <a:avLst/>
              <a:gdLst/>
              <a:ahLst/>
              <a:rect l="l" t="t" r="r" b="b"/>
              <a:pathLst>
                <a:path w="5761" h="189">
                  <a:moveTo>
                    <a:pt x="0" y="28"/>
                  </a:moveTo>
                  <a:cubicBezTo>
                    <a:pt x="961" y="0"/>
                    <a:pt x="4971" y="161"/>
                    <a:pt x="5761" y="0"/>
                  </a:cubicBezTo>
                  <a:lnTo>
                    <a:pt x="5761" y="189"/>
                  </a:lnTo>
                  <a:lnTo>
                    <a:pt x="1" y="189"/>
                  </a:lnTo>
                  <a:lnTo>
                    <a:pt x="0" y="28"/>
                  </a:lnTo>
                  <a:close/>
                </a:path>
              </a:pathLst>
            </a:custGeom>
            <a:gradFill rotWithShape="0">
              <a:gsLst>
                <a:gs pos="0">
                  <a:srgbClr val="767676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3240" y="37908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3366"/>
                </a:solidFill>
                <a:latin typeface="Times New Roman"/>
              </a:rPr>
              <a:t>Click to edit the title text format</a:t>
            </a:r>
            <a:endParaRPr b="0" lang="en-US" sz="6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dt" idx="4"/>
          </p:nvPr>
        </p:nvSpPr>
        <p:spPr>
          <a:xfrm>
            <a:off x="11667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18422-71F2-4EC6-A678-4B3CA9BE276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9640" y="690480"/>
            <a:ext cx="811872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Systems Modelling and Simulation</a:t>
            </a:r>
            <a:br>
              <a:rPr sz="4000"/>
            </a:b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(Lab session 6) 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68160" y="642636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A. Mousav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79280" y="3357360"/>
            <a:ext cx="896472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1158840" indent="-609480"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this session you should understa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to perform input data analy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use of the input analys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ncept of entity balking, expressions and stora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158840" indent="-609480">
              <a:spcBef>
                <a:spcPts val="700"/>
              </a:spcBef>
              <a:buClr>
                <a:srgbClr val="0099cc"/>
              </a:buClr>
              <a:buSzPct val="80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minating and steady-state simul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81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blem description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73240" y="1557000"/>
            <a:ext cx="7772400" cy="45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inform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all centre hours: 8am to 6p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few staff stay on till 7pm though system closes  to new calls at 6pm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 calls that enter by 6pm are served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uring the day, 8 tech support persons are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2 devoted to product 1 cal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 to product 2 cal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3 to product 3 call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ere are 4 sales persons for sales calls and follow-up order status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erformance measures of interes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unt number of customer calls not able to get a trunk line and are rejec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time on line by custom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ime waiting for a real person by custom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ber of calls waiting for service by customer 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sonnel util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971280" y="1700280"/>
            <a:ext cx="7988040" cy="48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w modelling issu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ustomer rejection and balk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ree-way deci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Variables and expres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or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rminating and steady-stat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73240" y="457200"/>
            <a:ext cx="7772400" cy="88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971640" y="1557360"/>
            <a:ext cx="797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ling approac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view Arena’s hierarchical structur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nerally, stay at the highest level possible as far as you ca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e will use modules from the following panels;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asic proces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Advanced proces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lock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71640" y="1980720"/>
            <a:ext cx="7974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ing the model: model se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e Arrivals and direct to servi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rival cut-off log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echnical support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rder-status cal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exit and run setu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im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Model 5-1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ck to Arena and start building the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00000" y="189000"/>
            <a:ext cx="77724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Input analysis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99640" y="1268280"/>
            <a:ext cx="80456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el formulation involv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Structural mode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model logic and behaviour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Quantitative modell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volves numerical values and distribution of delays and other attribute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ture of quantitative model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terministic vs. Random inpu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terministic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non-random. If so, its  simpl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ndom variables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ollow a probability distribution. If so do what is most realistic as far as possible. 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sensitivity analysis may be importan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99640" y="456840"/>
            <a:ext cx="8045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Fitting input distribution with the Input Analyser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99640" y="1700280"/>
            <a:ext cx="804564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the Input Analy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notepad file, enter and save sample data in a “text only” forma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042920" y="2276640"/>
            <a:ext cx="7993080" cy="308124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5651640" y="3429000"/>
            <a:ext cx="3492360" cy="647640"/>
          </a:xfrm>
          <a:prstGeom prst="ellipse">
            <a:avLst/>
          </a:prstGeom>
          <a:noFill/>
          <a:ln w="414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73240" y="18900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Judging the goodness-of-fit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71640" y="1341000"/>
            <a:ext cx="797400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sual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yeballing” the fitted densities on top of the histogra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n Square Error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measure of the quality of the distribution’s match to the data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i-Square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ing p-value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arger values indicate better f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lmogorov-Smirnov (K-S) 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rresponding p-value: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</a:rPr>
              <a:t>larger values indicate better fi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-values less than 0.05 indicate not a very good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high p-value is no proof, just a lack of evidence against the f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When there is no data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does not exis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ata collection too expensive or disrupti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f “ad hoc data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7324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Before leaving input analysis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7324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n-stationary arrival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ltivariate and correlated input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73240" y="33336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66"/>
                </a:solidFill>
                <a:latin typeface="Times New Roman"/>
              </a:rPr>
              <a:t>Model 5-1: A simple call centre system</a:t>
            </a:r>
            <a:endParaRPr b="0" lang="en-US" sz="36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899640" y="1412640"/>
            <a:ext cx="8045640" cy="54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blem descri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ystem provides a central number f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cal support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informatio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der status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oming call inter-arrival times: EXPO(0.857) m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entral number feeds 26 trunk lin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 all 26 in use, caller gets a busy signal, and goes awa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 answered caller gets three options to transfer to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echnical support (76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ales information (16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Order status inquiry (8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stimated transfer time is UNIF(0.1,0.6)min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804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blem description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99640" y="1557000"/>
            <a:ext cx="804564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caller chooses technical suppor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 2</a:t>
            </a:r>
            <a:r>
              <a:rPr b="1" lang="en-US" sz="2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recording requests product type customer is us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roduct 1 (25%), Product 2 (34%), Product 3 (41%)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his process takes UNIF(0.1,0.5)min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If a qualified tech support person is available for selected product type, call is automatically sent to that perso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lse customer is placed in a queue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Time for all Tech support calls (for all product types) is TRIA(3,6,18)min.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Upon completion of call, customer exits system</a:t>
            </a:r>
            <a:endParaRPr b="0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les calls are automatically routed to sales staf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les calls take an estimated time of TRIA(4,15,45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pon completion of call, customer exits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99640" y="115920"/>
            <a:ext cx="804564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Times New Roman"/>
              </a:rPr>
              <a:t>Problem description cont.</a:t>
            </a:r>
            <a:endParaRPr b="0" lang="en-US" sz="40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99640" y="1196640"/>
            <a:ext cx="8045640" cy="566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der status calls are automatically handled by the phone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re is no limit to the number the system can hand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t an ongoing order status call occupies on of the trunk lines and there are only 26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process takes an estimated time of TRIA(2,3,4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5% of these callers opt to speak to a real person after receiving order status info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se go to the sales staff where they wait with a lower priority than sales calls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follow-up process takes TRIA(3,5,10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y then exit the system after being served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09T15:12:07Z</dcterms:created>
  <dc:creator>emstaam</dc:creator>
  <dc:description/>
  <dc:language>en-US</dc:language>
  <cp:lastModifiedBy>emstaam</cp:lastModifiedBy>
  <dcterms:modified xsi:type="dcterms:W3CDTF">2009-11-16T16:29:29Z</dcterms:modified>
  <cp:revision>105</cp:revision>
  <dc:subject/>
  <dc:title>Discrete Modelling</dc:title>
</cp:coreProperties>
</file>