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ED7-AC03-4DE6-B2FA-B5934637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37E-579D-4287-9E3E-0FBE3D74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874-BCFA-4A42-8C89-5507E96D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3DD-5D5F-4915-B73C-121E1753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C07D-5CA5-476B-B621-E879F7D8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EF7D-B9D4-421B-A6E7-180E5823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4C98-D757-4760-80BD-BB4B08E1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4002-8C3D-4DFF-BA4A-E14F26FD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86D4-236C-4154-AF10-2B7BE0D8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4167-A5D9-4C6F-AB25-2D0B6E45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9BAE-FA07-42CA-84CA-873B45C0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BA2-2B1E-4F2F-B964-030CF4D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AB5A-CBEB-4B7A-812D-72ED221B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9647-050D-4A67-B750-746B89E5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48F2-7A8C-450E-AF5A-EF06F6F5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F386-9CDD-4469-8091-913610E0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55B5-563D-4D5A-A2F7-88BD341C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FBE-055B-40F9-B9C8-D34D20B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93A-84C3-4FC1-9292-2E6F9506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2D1-ADC8-4F36-818F-14E579F9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7A7-2B71-4392-8496-A813102C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346-82E3-4FE4-9FB5-5C6842E5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155-AA4E-4C24-AB85-9408232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62A-89E8-4414-9737-DC209294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59C0-EBD0-4878-8783-4F06EB1FE1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3790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CB02-5984-47E9-BF2E-4FC99170CA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690480"/>
            <a:ext cx="811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ystems Modelling and Simulatio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Lab session 8)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8160" y="64263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. Mousa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9280" y="3357360"/>
            <a:ext cx="8964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is session you should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ling multiple process plans for different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n entit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Small Manufacturing System with Transporter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cont’d.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modify existing Leav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25 Minu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load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 Out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quest Transpor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er Name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ion Rule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allest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lies when &gt; 1 transporter is availab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thers:  Cyclic, Random, Preferred Order, Largest Distanc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ve Attribute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art #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 Type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ranspor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Time disappears … determined by Velocity, Distances (late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Type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q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Leave: Request-Delay-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complex, more flexible – book has details, exam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Small Manufacturing System with Transporter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cont’d.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the Cart – modify existing Ente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.25 Minu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unloa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In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e Transpo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er Name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Number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rt 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tribute of part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istances for Transport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contents of Distance Se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s (in feet) moved by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nk cells: part movements that don’t occ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se data in Distance data module (Advanced Transfer pa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 button, add 11 rows with Beginning Station, Ending Station, Distance for abov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 is implied; could be asymmetr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4876920" cy="1442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086600" y="2514600"/>
            <a:ext cx="83808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imating Transporter Move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distances to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all the old Route Path anima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leave the Station anim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imated transporter distances with Distance button      , Animate Transfer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log, placement similar to Route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in Beginning Station marker, intermediate clicks, Ending Station mark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for Rotate, Fl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, Snap to help place animated transporter dist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007480" y="2492280"/>
            <a:ext cx="38088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arking Areas for Transport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e transporters when they’re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ing button      , Animate Transfer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a Queue animation – Point vs. Line, Shift, Ro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sor becomes cross hairs, click near lower left of Station marker to start, click for first Point or head of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licks for more Points (double-click to end), or second click to end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enough points/space for all transporters (2 he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for all Stations where Transporters could be fr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4572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ore Distances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—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mpty Transpor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3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Distances incomple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for part movements along thei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rs must also move when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1) distances need definition for network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istances to define in Distances data module (not gray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3357720"/>
            <a:ext cx="55072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nveyor concep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is ready to move from point A to Point B, it needs to Access a conveyor, be conveyed then ex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onveyor segments to be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v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Conve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n-accumula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we’ll do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rts and stops for Access and Ex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ing between entities traveling on Conveyor consta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umula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won’t 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ver stop mov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pped entity blocks entities arriving at same loc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Model 8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ling Conveyo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-Constrained transf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ze, Route and Re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, Transport and F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s Distances to be 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, Convey and Ex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s Segments to be 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verview of Entity Transfer Typ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71440" y="1941480"/>
            <a:ext cx="7704000" cy="4102920"/>
            <a:chOff x="1171440" y="1941480"/>
            <a:chExt cx="7704000" cy="4102920"/>
          </a:xfrm>
        </p:grpSpPr>
        <p:cxnSp>
          <p:nvCxnSpPr>
            <p:cNvPr id="133" name="_s23861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797240" y="4459680"/>
              <a:ext cx="513360" cy="6044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38616"/>
            <p:cNvCxnSpPr>
              <a:stCxn id="137" idx="0"/>
              <a:endCxn id="135" idx="2"/>
            </p:cNvCxnSpPr>
            <p:nvPr/>
          </p:nvCxnSpPr>
          <p:spPr>
            <a:xfrm flipH="1" flipV="1" rot="5400000">
              <a:off x="7192080" y="4458600"/>
              <a:ext cx="513360" cy="6069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38614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374800" y="4458960"/>
              <a:ext cx="513360" cy="6055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238612"/>
            <p:cNvCxnSpPr>
              <a:stCxn id="142" idx="0"/>
              <a:endCxn id="140" idx="2"/>
            </p:cNvCxnSpPr>
            <p:nvPr/>
          </p:nvCxnSpPr>
          <p:spPr>
            <a:xfrm flipH="1" flipV="1" rot="5400000">
              <a:off x="4768560" y="4458960"/>
              <a:ext cx="513360" cy="6062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38610"/>
            <p:cNvCxnSpPr>
              <a:stCxn id="135" idx="0"/>
              <a:endCxn id="144" idx="2"/>
            </p:cNvCxnSpPr>
            <p:nvPr/>
          </p:nvCxnSpPr>
          <p:spPr>
            <a:xfrm flipV="1" rot="16200000">
              <a:off x="5979960" y="1707480"/>
              <a:ext cx="513360" cy="303120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38608"/>
            <p:cNvCxnSpPr>
              <a:stCxn id="140" idx="0"/>
              <a:endCxn id="144" idx="2"/>
            </p:cNvCxnSpPr>
            <p:nvPr/>
          </p:nvCxnSpPr>
          <p:spPr>
            <a:xfrm flipV="1" rot="16200000">
              <a:off x="4768200" y="2919240"/>
              <a:ext cx="513360" cy="6080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238606"/>
            <p:cNvCxnSpPr>
              <a:stCxn id="147" idx="0"/>
              <a:endCxn id="144" idx="2"/>
            </p:cNvCxnSpPr>
            <p:nvPr/>
          </p:nvCxnSpPr>
          <p:spPr>
            <a:xfrm flipH="1" flipV="1" rot="5400000">
              <a:off x="4161960" y="2920680"/>
              <a:ext cx="513360" cy="6055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238605"/>
            <p:cNvCxnSpPr>
              <a:stCxn id="149" idx="0"/>
              <a:endCxn id="144" idx="2"/>
            </p:cNvCxnSpPr>
            <p:nvPr/>
          </p:nvCxnSpPr>
          <p:spPr>
            <a:xfrm flipH="1" flipV="1" rot="5400000">
              <a:off x="3556440" y="2314800"/>
              <a:ext cx="513360" cy="18169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238604"/>
            <p:cNvCxnSpPr>
              <a:stCxn id="151" idx="0"/>
              <a:endCxn id="144" idx="2"/>
            </p:cNvCxnSpPr>
            <p:nvPr/>
          </p:nvCxnSpPr>
          <p:spPr>
            <a:xfrm flipH="1" flipV="1" rot="5400000">
              <a:off x="2950200" y="1708560"/>
              <a:ext cx="513360" cy="30297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238600"/>
            <p:cNvSpPr/>
            <p:nvPr/>
          </p:nvSpPr>
          <p:spPr>
            <a:xfrm>
              <a:off x="4200480" y="1941480"/>
              <a:ext cx="103932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tity Transf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_s238601"/>
            <p:cNvSpPr/>
            <p:nvPr/>
          </p:nvSpPr>
          <p:spPr>
            <a:xfrm>
              <a:off x="1171440" y="3480120"/>
              <a:ext cx="1039320" cy="1025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nec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238602"/>
            <p:cNvSpPr/>
            <p:nvPr/>
          </p:nvSpPr>
          <p:spPr>
            <a:xfrm>
              <a:off x="2383920" y="3480120"/>
              <a:ext cx="1039320" cy="1025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238603"/>
            <p:cNvSpPr/>
            <p:nvPr/>
          </p:nvSpPr>
          <p:spPr>
            <a:xfrm>
              <a:off x="3596760" y="3480120"/>
              <a:ext cx="103932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source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238607"/>
            <p:cNvSpPr/>
            <p:nvPr/>
          </p:nvSpPr>
          <p:spPr>
            <a:xfrm>
              <a:off x="4809240" y="3480120"/>
              <a:ext cx="103824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porte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Direc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238609"/>
            <p:cNvSpPr/>
            <p:nvPr/>
          </p:nvSpPr>
          <p:spPr>
            <a:xfrm>
              <a:off x="7232400" y="3480120"/>
              <a:ext cx="103788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veyo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Norm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nidirec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238611"/>
            <p:cNvSpPr/>
            <p:nvPr/>
          </p:nvSpPr>
          <p:spPr>
            <a:xfrm>
              <a:off x="4203000" y="5018760"/>
              <a:ext cx="103788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e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porte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Ignores 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238613"/>
            <p:cNvSpPr/>
            <p:nvPr/>
          </p:nvSpPr>
          <p:spPr>
            <a:xfrm>
              <a:off x="5414400" y="5018760"/>
              <a:ext cx="103824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id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porte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ffected b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238615"/>
            <p:cNvSpPr/>
            <p:nvPr/>
          </p:nvSpPr>
          <p:spPr>
            <a:xfrm>
              <a:off x="6626160" y="5018760"/>
              <a:ext cx="103824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cumula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veyo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Stops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Starts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ccess and Ex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238617"/>
            <p:cNvSpPr/>
            <p:nvPr/>
          </p:nvSpPr>
          <p:spPr>
            <a:xfrm>
              <a:off x="7837560" y="5018760"/>
              <a:ext cx="103788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cumulat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veyo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Never st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ntity Transfer types so f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– No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route or entity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mit l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move along system by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New Entity Transfer Typ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source-constra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 total number of entities in transit at a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Health care (Patients walk-in), Telecommunications (number of packets), Logistics (number of vehicl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-handl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ranspor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multi-Direc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AGVs, fork lifts, trucks, carts, cranes, et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 number of entities, capacity of trans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ke a Resource, except moveab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nveyor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Normally unidirec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lts, hook lines, escalato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ually limited space on conveyor, spe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accumulating vs. accumulat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l 8-1: Small Manufacturing System with Resource-Constrained Transf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(Model 7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d all transfer times = 2 minut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imit on number of parts in transit at a ti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no more than 2 parts can be in motion at a give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ther parts are ready to go, they must wait until there’s room to 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via existing constr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; imagine a road wi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mited number of Units that can seize the road (resource) at beginning of tri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ease it at end of tri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anges to Model 7-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ou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Lea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dv. Transfer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er out : Seize Resource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f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es with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es (Adv.Transfer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s the S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In: Rele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model compare with 7-1 slight changes in WIP and Cycl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ransporter Concep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 is ready to move from point A to Point B, it needs to be “picked up” and 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ransporters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moveable”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: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r Selection Rule: If &gt; 1 transporter is available when Requ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freed and &gt; 1 entity is waiting: Priorities, closest 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Trans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ree-P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’ll 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vel time depends only on velocity, distan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gnore “traffic jams” and their resulting delay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ui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on’t 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Vs, intersections, etc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Small Manufacturing System with Transport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carts for transporting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art can carry one part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s move at 50 feet/min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ll need to specify accurate distances between St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0.25 minute to load part on a cart, 0.25 minute to unload it from a c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Model 8-1 to Model 8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Small Manufacturing System with Transporters (cont’d.) 8-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ransporter in Transporter data module (Advanced transfer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apacity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Velocity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the Distance Set (later), Units = Per Minute, Initial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nd the uni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imation      picture for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ranspor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r button (Animate Transfer toolb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pictures for Idle, Busy, Inactive st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30492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12:07Z</dcterms:created>
  <dc:creator>emstaam</dc:creator>
  <dc:description/>
  <dc:language>en-US</dc:language>
  <cp:lastModifiedBy>empgaak</cp:lastModifiedBy>
  <dcterms:modified xsi:type="dcterms:W3CDTF">2007-11-26T11:31:55Z</dcterms:modified>
  <cp:revision>75</cp:revision>
  <dc:subject/>
  <dc:title>Discrete Modelling</dc:title>
</cp:coreProperties>
</file>